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B3582-9105-482C-A022-2B041DFF0D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913F2-16AC-41CC-A70B-02F8E765C1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画平行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881680" y="503280"/>
            <a:ext cx="2766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垂线和平行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6"/>
          <p:cNvSpPr/>
          <p:nvPr/>
        </p:nvSpPr>
        <p:spPr>
          <a:xfrm>
            <a:off x="3608280" y="136044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下面的平行线画一个长方形和一个正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100240" y="2311560"/>
            <a:ext cx="4943520" cy="990360"/>
          </a:xfrm>
          <a:prstGeom prst="rect">
            <a:avLst/>
          </a:prstGeom>
          <a:ln w="0">
            <a:noFill/>
          </a:ln>
        </p:spPr>
      </p:pic>
      <p:sp>
        <p:nvSpPr>
          <p:cNvPr id="134" name="矩形 8"/>
          <p:cNvSpPr/>
          <p:nvPr/>
        </p:nvSpPr>
        <p:spPr>
          <a:xfrm>
            <a:off x="4495680" y="34178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3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36"/>
          <p:cNvSpPr/>
          <p:nvPr/>
        </p:nvSpPr>
        <p:spPr>
          <a:xfrm>
            <a:off x="819000" y="177336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平行线只要一把尺子也可以画好。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7640280" y="2462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4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4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"/>
          <p:cNvGrpSpPr/>
          <p:nvPr/>
        </p:nvGrpSpPr>
        <p:grpSpPr>
          <a:xfrm>
            <a:off x="969840" y="973080"/>
            <a:ext cx="4243680" cy="666720"/>
            <a:chOff x="969840" y="973080"/>
            <a:chExt cx="4243680" cy="666720"/>
          </a:xfrm>
        </p:grpSpPr>
        <p:sp>
          <p:nvSpPr>
            <p:cNvPr id="80" name="文本框 13"/>
            <p:cNvSpPr/>
            <p:nvPr/>
          </p:nvSpPr>
          <p:spPr>
            <a:xfrm>
              <a:off x="2128680" y="1044360"/>
              <a:ext cx="3084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平行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969840" y="973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969840" y="1639800"/>
            <a:ext cx="4583160" cy="110484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"/>
          <p:cNvGrpSpPr/>
          <p:nvPr/>
        </p:nvGrpSpPr>
        <p:grpSpPr>
          <a:xfrm>
            <a:off x="1184400" y="2744640"/>
            <a:ext cx="3516120" cy="1766880"/>
            <a:chOff x="1184400" y="2744640"/>
            <a:chExt cx="3516120" cy="1766880"/>
          </a:xfrm>
        </p:grpSpPr>
        <p:pic>
          <p:nvPicPr>
            <p:cNvPr id="84" name="Picture 16" descr=""/>
            <p:cNvPicPr/>
            <p:nvPr/>
          </p:nvPicPr>
          <p:blipFill>
            <a:blip r:embed="rId3"/>
            <a:stretch/>
          </p:blipFill>
          <p:spPr>
            <a:xfrm>
              <a:off x="1184400" y="2890800"/>
              <a:ext cx="945360" cy="16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7" descr=""/>
            <p:cNvPicPr/>
            <p:nvPr/>
          </p:nvPicPr>
          <p:blipFill>
            <a:blip r:embed="rId4"/>
            <a:stretch/>
          </p:blipFill>
          <p:spPr>
            <a:xfrm>
              <a:off x="2020680" y="2744640"/>
              <a:ext cx="267984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Picture 18" descr=""/>
          <p:cNvPicPr/>
          <p:nvPr/>
        </p:nvPicPr>
        <p:blipFill>
          <a:blip r:embed="rId5"/>
          <a:stretch/>
        </p:blipFill>
        <p:spPr>
          <a:xfrm>
            <a:off x="2128680" y="3984480"/>
            <a:ext cx="2570400" cy="194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"/>
          <p:cNvPicPr/>
          <p:nvPr/>
        </p:nvPicPr>
        <p:blipFill>
          <a:blip r:embed="rId6"/>
          <a:stretch/>
        </p:blipFill>
        <p:spPr>
          <a:xfrm>
            <a:off x="4618080" y="2706840"/>
            <a:ext cx="3817800" cy="139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"/>
          <p:cNvPicPr/>
          <p:nvPr/>
        </p:nvPicPr>
        <p:blipFill>
          <a:blip r:embed="rId7"/>
          <a:stretch/>
        </p:blipFill>
        <p:spPr>
          <a:xfrm>
            <a:off x="5118120" y="4237200"/>
            <a:ext cx="2900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1060560" y="1059480"/>
            <a:ext cx="4784760" cy="1416960"/>
            <a:chOff x="1060560" y="1059480"/>
            <a:chExt cx="4784760" cy="1416960"/>
          </a:xfrm>
        </p:grpSpPr>
        <p:pic>
          <p:nvPicPr>
            <p:cNvPr id="9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621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741680"/>
              <a:ext cx="1245960" cy="73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20"/>
          <p:cNvSpPr/>
          <p:nvPr/>
        </p:nvSpPr>
        <p:spPr>
          <a:xfrm>
            <a:off x="1498680" y="2676600"/>
            <a:ext cx="66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根据“两条平行线之间所有垂直线段的长度都相等”这一性质，说明长方形、正方形的对边分别平行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2401920" y="4886280"/>
            <a:ext cx="2176560" cy="709560"/>
          </a:xfrm>
          <a:prstGeom prst="rect">
            <a:avLst/>
          </a:prstGeom>
          <a:solidFill>
            <a:srgbClr val="8eb4e3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5649840" y="4859280"/>
            <a:ext cx="684360" cy="682560"/>
          </a:xfrm>
          <a:prstGeom prst="rect">
            <a:avLst/>
          </a:prstGeom>
          <a:solidFill>
            <a:srgbClr val="8eb4e3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819000" y="1944720"/>
            <a:ext cx="75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画平行线的方法：准备一副三角板。先在纸上画出一条直线，然后将其中的一个三角板的一条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画好的直线上，将另一个三角板的一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这个三角板的一边上，上下移动三角板，注意移动的时候，两个三角板始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三角板停住的时候，就可以画好一组平行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9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1777680" y="320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叠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1558440" y="375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紧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6708600" y="42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紧挨在一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Box 36"/>
          <p:cNvSpPr/>
          <p:nvPr/>
        </p:nvSpPr>
        <p:spPr>
          <a:xfrm>
            <a:off x="819000" y="1944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过直线外的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已知直线的平行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1332000" y="2824200"/>
            <a:ext cx="5214960" cy="1325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1547640" y="4425840"/>
            <a:ext cx="2006640" cy="123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4"/>
          <a:stretch/>
        </p:blipFill>
        <p:spPr>
          <a:xfrm>
            <a:off x="4780080" y="4303800"/>
            <a:ext cx="1517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举出两个生活中利用平行线的例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10"/>
          <p:cNvSpPr/>
          <p:nvPr/>
        </p:nvSpPr>
        <p:spPr>
          <a:xfrm>
            <a:off x="4481280" y="3040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火车的轨道、作业本的横格之间都设计成平行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6"/>
          <p:cNvSpPr/>
          <p:nvPr/>
        </p:nvSpPr>
        <p:spPr>
          <a:xfrm>
            <a:off x="819000" y="1944720"/>
            <a:ext cx="76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在下面的平行线间画几条垂线，并用尺子量一量，你有什么发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在两条平行线之间画垂线，这些垂线处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叫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矩形 10"/>
          <p:cNvSpPr/>
          <p:nvPr/>
        </p:nvSpPr>
        <p:spPr>
          <a:xfrm>
            <a:off x="1649160" y="42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589200" y="3057480"/>
            <a:ext cx="1990800" cy="56664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4265280" y="429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行线间的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670200" y="5059440"/>
            <a:ext cx="19814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6"/>
          <p:cNvSpPr/>
          <p:nvPr/>
        </p:nvSpPr>
        <p:spPr>
          <a:xfrm>
            <a:off x="880920" y="2946240"/>
            <a:ext cx="74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62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有三条直线，第一条和第二条互相平行，若第三条与第一条平行，则也与第二条平行；若第三条与第一条垂直，则也与第二条垂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6"/>
          <p:cNvSpPr/>
          <p:nvPr/>
        </p:nvSpPr>
        <p:spPr>
          <a:xfrm>
            <a:off x="3139200" y="1763640"/>
            <a:ext cx="14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方格纸上画出已知直线的平行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7"/>
          <p:cNvGrpSpPr/>
          <p:nvPr/>
        </p:nvGrpSpPr>
        <p:grpSpPr>
          <a:xfrm>
            <a:off x="957240" y="1062720"/>
            <a:ext cx="5522760" cy="733680"/>
            <a:chOff x="957240" y="1062720"/>
            <a:chExt cx="5522760" cy="733680"/>
          </a:xfrm>
        </p:grpSpPr>
        <p:pic>
          <p:nvPicPr>
            <p:cNvPr id="12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23"/>
            <p:cNvSpPr/>
            <p:nvPr/>
          </p:nvSpPr>
          <p:spPr>
            <a:xfrm>
              <a:off x="1279440" y="1062720"/>
              <a:ext cx="52005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409760" y="2463840"/>
            <a:ext cx="6337080" cy="19270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4495680" y="44989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57:08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